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chimes.wav" ContentType="audio/x-wav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5390-0BE4-4C74-81E9-B629C08D313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5D66-CBC4-4FAA-9CA8-0FDF2B28765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881B-B9A5-48DC-B803-127D889B5EF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7B7-D9EB-4E72-9B9E-30D55A5E761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AEBF-7180-44D8-BD5B-34A084B399D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B885-7F44-4EE2-B981-ECD5D41A16C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756A-C202-4316-BD38-F218B1276F4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7FD-3AA2-4444-BBCA-3AE45489BC8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6E8E-9604-44C7-950F-533A0B296E6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3EE8-8E33-4425-88D0-15CE29401E0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DB21-A8D6-446D-9E6C-02DA4A7BA26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9A2-FB2B-4278-B4F2-8314A19502F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3C29-1541-490B-A84E-BE9A4D46BAF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EC5D-612C-485C-A102-0671569EFEE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CA2-6361-418A-B236-B032C4095E0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B46-73D9-4AE2-9B05-CFA7E87985F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956E-A492-4D2C-8D19-DAA9E71D0B5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D2CE-5770-4141-B96F-E8E28C3378C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0304-F64D-45D9-9F05-50B9B4656C5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CB4E-0D14-4732-A030-1ABE8DE3732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C6A-1D16-49B6-A12B-AF43750EEA7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40D-7A02-4342-B5B1-09AF9EE59E2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0FB7-1CEA-42B3-896A-01D62FFC9CC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A77C-2E17-4F25-95D2-C7963252AD0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6C4C-EC8A-48D6-9CE4-B7C0D119FC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8AD9-3293-4C44-A1C6-F3193838E4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2396-502F-462F-B7B0-3575D4CDA2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BEB0-F5EE-468C-9F92-79497D9865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07A4-92B0-4B2B-B518-596B40400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2783-8BC5-45DD-A1AC-F8745E8353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F0C6-7F36-40DF-AAE1-173151F463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71AF-A239-4C84-8C13-D6F20BF4B7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4727-F62C-4E16-9904-089DB90C19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3753-65F1-4222-902F-75A125BBAA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C337-5736-4A81-80A1-02C795BACB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7D23-A337-464D-8CD2-25D69B9045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вал 8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3" name="Овал 8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Овал 9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9"/>
          <p:cNvSpPr/>
          <p:nvPr/>
        </p:nvSpPr>
        <p:spPr>
          <a:xfrm>
            <a:off x="4357800" y="6500880"/>
            <a:ext cx="1857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В. Репин,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"/>
          </p:nvPr>
        </p:nvSpPr>
        <p:spPr>
          <a:xfrm>
            <a:off x="8613720" y="6500520"/>
            <a:ext cx="457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9F33-D9A2-4077-B573-67F23D939C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Овал 9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3" name="Овал 9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12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8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Прямоугольник 8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0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Блок-схема: процесс 9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Блок-схема: процесс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Сквозные бизнес-процессы в компани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2928600"/>
            <a:ext cx="7693200" cy="3500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згляд на организацию, как на систем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ффекты синерг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лемы, возникающие в организации из-за неэффективных процесс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Сквозные» или межфункциональные процес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можные подходы к организации управления сквозными процесс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99A7-7216-4623-8A3F-00E185028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413000" y="0"/>
            <a:ext cx="7731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3929040"/>
            <a:ext cx="32860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 № 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хемы сквозного процесс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ем заказа кли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-71640"/>
            <a:ext cx="7499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2 схемы сквозного процесса. Разработка нового продук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4A0-6E07-4032-8FB8-EA904565C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82152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8001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3 схемы сквозного процесса.  Отправка и монтаж оборудования у клиен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238-2487-4D45-9856-B865946AC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000080" y="777960"/>
            <a:ext cx="81504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4 схемы сквозного процесса.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Выпуск «газеты» мен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168-F0AE-476D-80EA-1A34B8D58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0" y="928800"/>
            <a:ext cx="921528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715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Некоторые критерии определения сквоз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707C-B352-48DD-9567-19CFC089A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1280" y="1285920"/>
            <a:ext cx="9001440" cy="2585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-360" y="4000320"/>
            <a:ext cx="900108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ход поставляется внешнему (внутреннему) потребителю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активное взаимодействие подразделения, выполняющего процесс, с другими подразделениям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ля получения выхода процессу необходимы ресурсы, которые полностью не могут быть произведены внутри самого процесса и должны поставляться из других процессов на промежуточных стадиях выполнения процесс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ководитель подразделения не может обеспечить требуемые показатели выхода (результативность, качество) и удовлетворенность клиента,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енная (большая) часть поставляемого потребителю продукта/услуги формируется в других процессах на предыдущих стади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Что дает выделение сквозных процессов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71360" y="16426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нимание  менеджментом организации как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реальное управление процессам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трудники начинают «видеть процессы целиком» и понимают свою роль в удовлетворении потребностей клиен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лучшение взаимодействия вовлеченных в сквозные процессы подразделений (сотрудников) и достижение синергетических эффек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следствие «работы» со сквозными процессами повышается результативность, эффективность и качество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змен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8FA4-4261-42E9-BC37-172B0F570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имеры реальных улучшений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43000" y="1428480"/>
            <a:ext cx="7648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еличение объема производства в 2 раза (на тех же площадях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цикла разработки нового изделия с 8 до 4 месяце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до нуля числа случаев поставки некомплектного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ижение времени простоев оборудования в 2 ра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времени подготовки ответа на заявку клиента с 2 недель до 3-4 дн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DD99-BD2C-4494-8BBF-16EF27C73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9720" y="7128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Какие процессы не являются сквозным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DDFE-9203-41DC-BC83-561F612CA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3214800"/>
                <a:gridCol w="592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закупки, производства и отгрузки товарных свин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часть цепочки создания ценности , выполняемой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производства готовой продук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последовательность процессов, обусловленная технологией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Деятельность отдела сбы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абор фрагментов различны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коммуникаций в организ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вообще не процесс с точки зрения управления, так как нельзя корректно определить его гра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дура управления документацией внутреннего происхож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описание последовательности шагов по обработке документов определенного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 цепочка (описанная в виде схем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I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ewi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siness-Studi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из 58 ша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екоторое субъективное представление цепочки операций, случайно объединенных в рамках одной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«Типовой» перечень сквозных процессов организац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14280" y="1771560"/>
            <a:ext cx="75708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тегическое упр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 заказа клиента (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2B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новой продук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служивание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крытие нового филиала (проек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юджетир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ольнение сотрудн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rbel"/>
              </a:rPr>
              <a:t>Перечень сквозных процессов - свой для каждой организаци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DDE-BB03-4011-A0C1-3FB1F46D0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Как управлять «сквозными» процессами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43000" y="18568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1. «Ничего не менять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2. «Организация  группы вокруг процесс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3. «Матричное управлени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4. «Куратор со стороны высшего руководств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5. «Мониторинг владельцем процесса и куратор свыш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6. «Управление через регламент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773-E1A1-4A4B-BF39-1992BB849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Организация как система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519200"/>
            <a:ext cx="7499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– это сложная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а – сеть взаимозависимых компонентов, работающих вместе для достижения единой ц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тобы управлять системой, нужно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взаимоотношения между всеми компонентами в ее пределах и людьми, которые в ней работаю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 требует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«Если компоненты системы оказываются предоставленными сами себе, они быстро становятся эгоистичными, конкурирующими, независимыми и таким образом уничтожают систему…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E0B3-1A03-429F-88CB-5EAD6B736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5467320"/>
            <a:ext cx="29923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Организация группы вокруг процесс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3773520" cy="3021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1208160" y="318960"/>
            <a:ext cx="77929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3840120" y="1928880"/>
            <a:ext cx="5303880" cy="324144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5"/>
          <p:cNvSpPr/>
          <p:nvPr/>
        </p:nvSpPr>
        <p:spPr>
          <a:xfrm>
            <a:off x="4714920" y="5143680"/>
            <a:ext cx="36352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атричное управление процес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 flipH="1">
            <a:off x="3785760" y="1928880"/>
            <a:ext cx="1800" cy="4788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10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2D63-DB21-4A36-B4AA-585D7F48F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6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Куратор со стороны вышестоящего руководств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143000" y="214200"/>
            <a:ext cx="77929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1"/>
          <p:cNvSpPr/>
          <p:nvPr/>
        </p:nvSpPr>
        <p:spPr>
          <a:xfrm flipH="1">
            <a:off x="4357800" y="1928880"/>
            <a:ext cx="1440" cy="47862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55520" y="2071800"/>
            <a:ext cx="3773520" cy="3767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790800" cy="3988080"/>
          </a:xfrm>
          <a:prstGeom prst="rect">
            <a:avLst/>
          </a:prstGeom>
          <a:ln w="0">
            <a:noFill/>
          </a:ln>
        </p:spPr>
      </p:pic>
      <p:sp>
        <p:nvSpPr>
          <p:cNvPr id="420" name="Заголовок 5"/>
          <p:cNvSpPr/>
          <p:nvPr/>
        </p:nvSpPr>
        <p:spPr>
          <a:xfrm>
            <a:off x="53578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ониторинг владельцем процесса и куратор с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9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A919-09F5-4319-ACAE-BE743401E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208160" y="428760"/>
            <a:ext cx="77929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42920" y="2138400"/>
            <a:ext cx="8858160" cy="414828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8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C956-6B75-4F5D-93D5-610C66251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о каким критериям выбирать сквозные процессы для оптимизаци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3000" y="2000160"/>
            <a:ext cx="781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сурсы, находящиеся в управлени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стратегического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зможный масштаб проблем, связанных с несоответствующими выходами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разработки нового продукта, процесс разработки меню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вторяемость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много раз в сутки, несколько раз в месяц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Тиражируемость»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использование в разных филиалах 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начительные потоки информации (документов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жность процесса с точки зрения корпоративной культуры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приема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увольнения сотрудников, процесс подготовки к празднованию Нового года ;-))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6786720" y="150012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428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679-7397-4CE0-AC7A-7795A8D9F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Автоматизация сквозных процессов в </a:t>
            </a: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BPM</a:t>
            </a: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-системе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43000" y="2017800"/>
            <a:ext cx="7740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ли сквозные процессы целесообразно автоматизировать в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терии выбора сквозных процессов для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является сквозным (т.е. проходит через несколько подразделений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спроизводимость процесса (оптимальный вариант – процесс находится в состоянии статистической управляемости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часто повторяется (несколько раз за рабочий день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существует значительный документооборот (десятки и сотни документов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активно используется программное обеспече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ники процесса имеют доступ к компьютерам; имеется се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1"/>
          <a:stretch/>
        </p:blipFill>
        <p:spPr>
          <a:xfrm>
            <a:off x="7072200" y="135720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D0D-9D9D-4A2A-B9AE-34C4DC3FB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28800" y="1285920"/>
            <a:ext cx="800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трудовой процесс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Ф.Тейлор). Выделение и анализ блоков «человек-труд», разделение труда на элементарные части и оптимизация их выполнения, человек – запча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маш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А. Файоль, Л. Урвик). Выделение функциональных звеньев, планирование, координация, контрол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бщ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Э. Мэйо, Ф. Ротлисбергер). «Неформальная» структура организации, социально-психологическая «организация в организаци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Дж. Марч, Г. Саймон). Техническая подсистема, административная, неформальная, экономическая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рганизм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утренние органы, характер, болезни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бюрократ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Вебер). Бюрократическая концепция социума, рационализация поведения человека, стандартизация деятельнос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политическ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Крозье). Классовая концепция устройства. Групповые интере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дел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Г. Альтшуллер). Совокупность взаимодействующих процесс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Различные взгляды на организацию как систему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852-B59E-45DB-AC8A-23E5A7327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онятие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000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з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о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греч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συνεργία Synergos — вместе действующий) — это комбинированное воздействие двух или более факторов, характеризующееся тем, что их объединённое действие существенно превосходит эффект каждого отдельно взятого компонента и их сум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+1=4 или 6?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внутри организации: сквозные процессы, организация как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при слиянии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F652-1152-4D9F-95B7-F1C7F1CAE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Условия возникновения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713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скольких субъектов (организаций, подразделений, специалис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можность налаживания коммуникаций между объект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диная система измерени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н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ли и показ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ерационные определ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тивация на получение эффек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обходимых ресурсов для реализации эффектов (в т.ч. времени руководителе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ADC2-EC83-45F7-BF23-91CDEB481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4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Синергия при взаимодейств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73160" y="149976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одажа продукции компани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е, маркетолога, инженер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огласование условий договор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ам, юрист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зработка нового издел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аркетолога, менеджера по продажам, технолога, менеджера по закупке, эконом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ием на работу нового сотрудник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ерсоналу, начальника подразделения, мастера-наставника, бухгалтер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5CF9-525D-42DD-9B24-902FC4E19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ы потерь и их причин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CC07-B054-4EEA-878F-8000AE864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/>
          <a:stretch/>
        </p:blipFill>
        <p:spPr>
          <a:xfrm>
            <a:off x="-173160" y="642960"/>
            <a:ext cx="9888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чины неэффективных процессов </a:t>
            </a:r>
            <a:r>
              <a:rPr b="0" i="1" lang="ru-RU" sz="2800" spc="-1" strike="noStrike">
                <a:solidFill>
                  <a:srgbClr val="572314"/>
                </a:solidFill>
                <a:latin typeface="Corbel"/>
              </a:rPr>
              <a:t>(один из возможных взглядов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C64-0782-455E-93BA-2E9B1499E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-25560" y="1428840"/>
            <a:ext cx="9213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облемы, возникающие из-за неэффектив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ECF3-D3F7-4301-9F1A-28DFD9AC5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71720" y="1842840"/>
            <a:ext cx="76435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нижение прибыли, неэффективное использование капита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темп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ое качество продукции, неудовлетворенные клиенты, потеря рынка сбы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е зарплаты, неудовлетворенность сотрудников своим тру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9:38:36Z</dcterms:created>
  <dc:creator>www</dc:creator>
  <dc:description/>
  <dc:language>en-US</dc:language>
  <cp:lastModifiedBy>www</cp:lastModifiedBy>
  <dcterms:modified xsi:type="dcterms:W3CDTF">2009-01-19T09:14:46Z</dcterms:modified>
  <cp:revision>135</cp:revision>
  <dc:subject/>
  <dc:title>BPM – последняя надежда системной оптимизации компании</dc:title>
</cp:coreProperties>
</file>